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CC0-CAEA-4D60-9BC2-B30C8B68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F79-52BA-4F43-BA60-F5B7B36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8B0-8A56-46BC-AC61-0732E72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8D1-168A-41DE-93EF-076F3D1D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CFB-0211-4DB8-8F5D-0128579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734-8EEE-4DC7-BF11-2FE9BE2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733-82CA-4AB8-9907-2629244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29A-4D89-45F8-84C6-830BAEBC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4FC-E019-4418-880A-FF32A37D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ED8-1578-4A55-8C44-44F09E4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7A1-D231-433A-9BF2-D1938E4D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E39-5224-4371-83D8-B89291D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A9C7-8BF1-49F8-9E78-952B7BD9B02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47Z</dcterms:created>
  <dc:creator> </dc:creator>
  <dc:description/>
  <dc:language>en-US</dc:language>
  <cp:lastModifiedBy> </cp:lastModifiedBy>
  <dcterms:modified xsi:type="dcterms:W3CDTF">2004-06-16T23:26:52Z</dcterms:modified>
  <cp:revision>1</cp:revision>
  <dc:subject/>
  <dc:title>更深渴慕你 &lt;1/2&gt; Deeper Longing</dc:title>
</cp:coreProperties>
</file>